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6B2-0821-48B8-9A9F-EC3694C5614A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679-9BE3-4B06-A71B-ADE4A3DCCF2B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358-2EE1-47DB-9A04-C2CE7BE4539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C4A5-026A-4BB7-A66F-0DF8A05476A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DF5B-46CC-48F6-B88E-DFF13D96769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BEE-272B-45AF-8BB6-8AC22307E95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44B-59C2-4EC5-A89A-1A51A5EE5D4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0709-FA1C-444C-9B7E-FA5B7DD1D3B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14C-0507-47FB-B768-F0AD7C9A6C8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4DF-3A0E-4D57-9890-0D93C9BFBC7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64D-B53F-4DD8-A7A3-E41772F7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5D9-4B3B-49DC-A3F0-22E8119E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4FD-A32C-4F9D-99E9-1E09FDF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991-E9A5-4F17-90B3-EA0BF127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0094-9C48-4821-9C30-47F6F54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A445-4B95-4FAB-8C1C-B71AC3FB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E064-DD54-49DA-8BDE-C1609632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EEB-D78D-45E2-A188-4697E9A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1CF9-613E-45E5-AD92-4E00B514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AB4D-9D68-4409-9C9C-41EAD704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7984-DA65-4C73-911D-65D7FF23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EC1-6947-45B5-8D09-28641B4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386-CF97-4DA2-95DD-12C63F92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E88-05C6-4BAA-A22F-7AF9F05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F6D-DF0D-4BF8-AE4F-9CAAE992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DF4-E284-4E28-8EB3-72692EBD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4EBE-E37D-4A84-84B7-3918A31F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7CC-2CC1-4A22-B4CC-671509C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652-904B-4A8E-9787-5F5A52A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596-693A-45B6-B58A-3BCC0011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FE8-EE65-4FD9-BD0B-CE5DF2CA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546-5164-4389-B9F8-8F9E7C2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F0B-5089-4403-AC4A-CA7FD1B0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F2B-B7A4-4B98-9346-FB04836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A49-E8C9-448A-9816-86B2AA912DB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D448-1C17-4988-B721-9CF79633D7A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2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39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46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0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58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2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5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357200" y="0"/>
            <a:ext cx="407196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Qué enzimas participan en Vía Glicolítica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0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357200" y="1643040"/>
            <a:ext cx="4071960" cy="17146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26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285920" y="2643120"/>
            <a:ext cx="435780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2920" y="4214880"/>
            <a:ext cx="6286320" cy="2071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247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4214520" y="4785480"/>
              <a:ext cx="3643200" cy="65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DHAP)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(G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42920" y="5214960"/>
            <a:ext cx="628632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379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01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Oxida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9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4071960" y="0"/>
            <a:ext cx="5072040" cy="20001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4 CuadroTexto"/>
          <p:cNvSpPr/>
          <p:nvPr/>
        </p:nvSpPr>
        <p:spPr>
          <a:xfrm>
            <a:off x="428760" y="1643040"/>
            <a:ext cx="2857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515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9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520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0" descr="NAD"/>
          <p:cNvPicPr/>
          <p:nvPr/>
        </p:nvPicPr>
        <p:blipFill>
          <a:blip r:embed="rId4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7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643200" y="1500120"/>
            <a:ext cx="5500800" cy="18576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CuadroTexto"/>
          <p:cNvSpPr/>
          <p:nvPr/>
        </p:nvSpPr>
        <p:spPr>
          <a:xfrm>
            <a:off x="7142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4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786120" y="2857680"/>
            <a:ext cx="5072040" cy="1571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357120" y="150012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7" name="2 CuadroTexto"/>
          <p:cNvSpPr/>
          <p:nvPr/>
        </p:nvSpPr>
        <p:spPr>
          <a:xfrm>
            <a:off x="-335772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4071960" y="3857760"/>
            <a:ext cx="507204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4 CuadroTexto"/>
          <p:cNvSpPr/>
          <p:nvPr/>
        </p:nvSpPr>
        <p:spPr>
          <a:xfrm>
            <a:off x="5000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5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3929040" y="5000760"/>
            <a:ext cx="5072040" cy="18572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4 CuadroTexto"/>
          <p:cNvSpPr/>
          <p:nvPr/>
        </p:nvSpPr>
        <p:spPr>
          <a:xfrm>
            <a:off x="85716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(6C) se convierte en 2 TRIOSAS  (2x3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NADH (2 molécul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57120" y="72612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triosas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 y 2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24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5:30:07Z</dcterms:modified>
  <cp:revision>329</cp:revision>
  <dc:subject/>
  <dc:title>Diapositiva 1</dc:title>
</cp:coreProperties>
</file>